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03240" y="748800"/>
            <a:ext cx="4991040" cy="37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81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81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299-0BC2-4532-A767-797411BA8DA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782E-EA0F-4789-BAC7-2270CC2064E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20C5-C0CD-49D9-ADEA-DAF98C47989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41560"/>
            <a:ext cx="543888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82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ABB-7158-4AA0-A188-3323612A4BC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E64-F2AC-48C3-9F23-23467536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AB3-EB59-468A-B1D6-BB1CF900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DD3-147D-408B-95E0-FEF8165F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C6B-6015-4BF0-AE63-211FDDD6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562-10A4-4C8C-9C28-9CFE9DEF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807B-D0D4-4DC6-BD6E-A78D9FF8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12A-B959-4960-B9F8-674F2D56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8AB2-967D-47D5-8ECA-5D4C6728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0909-9393-4E14-8F8D-9E33B83F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8573-DE85-4645-BBD3-FA583C32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A8FC-FA6B-437D-9B88-79DC189E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714-0BD4-4A9D-8A92-E810BF19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31C-85C6-4A76-A94F-DD4130E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9169-7BF3-4DE6-A79C-656D508C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F582-1B6C-45B9-B509-4A6210C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D1C-B490-4D15-8E83-BD6024EA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3DC5-A447-4450-A72D-3FA02064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43D-BC88-4E23-B4A9-35794E6E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77C-1904-4585-8BA9-E13E4B1D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624-BB24-4BB9-AB32-72EE4761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179-C38F-4B25-ADD9-EBA0FA7F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813-95E2-411D-A3DF-C65CA96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421-CD67-48F1-8812-46FAB19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B67-C52D-45EC-B31B-5ADB81F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E6CD-3431-47A8-838B-0A73EDE71B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eeece1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eeece1"/>
                </a:solidFill>
                <a:latin typeface="Calibri"/>
                <a:ea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A8A-F70C-4066-9EC1-96AC0312CF0E}" type="slidenum">
              <a:rPr b="0" lang="pt-BR" sz="1200" spc="-1" strike="noStrike">
                <a:solidFill>
                  <a:srgbClr val="eeece1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LUCIANA/Desktop/V&#205;DEOS/Luciana%20de%20Abreu%20School%20before%20XO.flv" TargetMode="External"/><Relationship Id="rId3" Type="http://schemas.openxmlformats.org/officeDocument/2006/relationships/hyperlink" Target="file:///C:/Documents%20and%20Settings/LUCIANA/Desktop/V&#205;DEOS/Luciana%20de%20Abreu%20School%20before%20XO.flv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57160" y="8568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14400" y="228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tângulo de cantos arredondados 12"/>
          <p:cNvGrpSpPr/>
          <p:nvPr/>
        </p:nvGrpSpPr>
        <p:grpSpPr>
          <a:xfrm>
            <a:off x="-49320" y="-304920"/>
            <a:ext cx="9558360" cy="7815240"/>
            <a:chOff x="-49320" y="-304920"/>
            <a:chExt cx="9558360" cy="7815240"/>
          </a:xfrm>
        </p:grpSpPr>
        <p:pic>
          <p:nvPicPr>
            <p:cNvPr id="130" name="Retângulo de cantos arredondados 12" descr=""/>
            <p:cNvPicPr/>
            <p:nvPr/>
          </p:nvPicPr>
          <p:blipFill>
            <a:blip r:embed="rId2"/>
            <a:stretch/>
          </p:blipFill>
          <p:spPr>
            <a:xfrm>
              <a:off x="-49320" y="-304920"/>
              <a:ext cx="9558360" cy="781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1920" y="-223920"/>
              <a:ext cx="9020160" cy="73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3"/>
          <a:stretch/>
        </p:blipFill>
        <p:spPr>
          <a:xfrm>
            <a:off x="395280" y="1359000"/>
            <a:ext cx="8332920" cy="549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58920" y="6453360"/>
            <a:ext cx="43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2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 É O 1º PASSO? QUE DIREÇÃO TOM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1º passo é d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          NTE          STE       PR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479600" cy="2160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900000" y="1773360"/>
            <a:ext cx="1479600" cy="21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771640" y="1773360"/>
            <a:ext cx="1528920" cy="223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716360" y="1773360"/>
            <a:ext cx="1479600" cy="216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6372360" y="2852640"/>
            <a:ext cx="50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2737080" cy="2073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221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419640" y="5013360"/>
            <a:ext cx="4572000" cy="1457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56000" y="4508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Tablet – Serrana - 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859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JA - 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 UCA = 1:1 -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todologia de trabalho por projetos de ensino (HERNÁNDEZ, 199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agem do mode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RUCIONISTA - CONSTRUTIVI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pedagogia centrada no aluno - VYGOTSK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a de 150 mil laptops para 20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T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uciana de Abreu – antes do XO.</a:t>
            </a:r>
            <a:r>
              <a:rPr b="0" lang="pt-B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into dia com o XO.fl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48320" y="1600200"/>
            <a:ext cx="4038120" cy="1252080"/>
            <a:chOff x="4648320" y="1600200"/>
            <a:chExt cx="4038120" cy="1252080"/>
          </a:xfrm>
        </p:grpSpPr>
        <p:cxnSp>
          <p:nvCxnSpPr>
            <p:cNvPr id="152" name="_s118799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803280" y="1963440"/>
              <a:ext cx="250920" cy="52416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18796"/>
            <p:cNvCxnSpPr>
              <a:stCxn id="156" idx="0"/>
              <a:endCxn id="154" idx="2"/>
            </p:cNvCxnSpPr>
            <p:nvPr/>
          </p:nvCxnSpPr>
          <p:spPr>
            <a:xfrm flipV="1" rot="16200000">
              <a:off x="7327080" y="1439640"/>
              <a:ext cx="250920" cy="157212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18795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6280560" y="1964160"/>
              <a:ext cx="250920" cy="52308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18794"/>
            <p:cNvCxnSpPr>
              <a:stCxn id="160" idx="0"/>
              <a:endCxn id="154" idx="2"/>
            </p:cNvCxnSpPr>
            <p:nvPr/>
          </p:nvCxnSpPr>
          <p:spPr>
            <a:xfrm flipH="1" flipV="1" rot="5400000">
              <a:off x="5757120" y="1440720"/>
              <a:ext cx="250920" cy="1569960"/>
            </a:xfrm>
            <a:prstGeom prst="bentConnector3">
              <a:avLst>
                <a:gd name="adj1" fmla="val 125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18790"/>
            <p:cNvSpPr/>
            <p:nvPr/>
          </p:nvSpPr>
          <p:spPr>
            <a:xfrm>
              <a:off x="6218640" y="160020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FR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8791"/>
            <p:cNvSpPr/>
            <p:nvPr/>
          </p:nvSpPr>
          <p:spPr>
            <a:xfrm>
              <a:off x="464832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8792"/>
            <p:cNvSpPr/>
            <p:nvPr/>
          </p:nvSpPr>
          <p:spPr>
            <a:xfrm>
              <a:off x="569520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J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8793"/>
            <p:cNvSpPr/>
            <p:nvPr/>
          </p:nvSpPr>
          <p:spPr>
            <a:xfrm>
              <a:off x="778932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SÍ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8798"/>
            <p:cNvSpPr/>
            <p:nvPr/>
          </p:nvSpPr>
          <p:spPr>
            <a:xfrm>
              <a:off x="6742080" y="2351520"/>
              <a:ext cx="897120" cy="50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CANT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16360" y="2997360"/>
            <a:ext cx="4067280" cy="216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940360" y="836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s exemplos de comunidade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, chat,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k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lide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iki (wikidot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KISP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gs (videologs, vlogs, tlogs, blog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casts (radiow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o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ZIQ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ebconfer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s e plataformas virtuais de aprendizagem: teleduc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blackboard, aulanet, webct, wiziq, 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Trabalho com comunidades virtu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Projeto MS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nucleo de tecnologias educaciona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uems.br/moodl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portaldoprofessor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www.educarede.com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http://portal.mec.gov.br/TVesco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1" descr=""/>
          <p:cNvPicPr/>
          <p:nvPr/>
        </p:nvPicPr>
        <p:blipFill>
          <a:blip r:embed="rId1"/>
          <a:stretch/>
        </p:blipFill>
        <p:spPr>
          <a:xfrm>
            <a:off x="433440" y="365040"/>
            <a:ext cx="8558280" cy="6730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7272360" cy="511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71640" y="54936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O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8622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AF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 explicativo retangular com cantos arredondados 7"/>
          <p:cNvSpPr/>
          <p:nvPr/>
        </p:nvSpPr>
        <p:spPr>
          <a:xfrm>
            <a:off x="857160" y="1571760"/>
            <a:ext cx="7572600" cy="44290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Arial"/>
              </a:rPr>
              <a:t>Qual é o nosso papel, como professor (a) em uma sociedade em constantes transformaçõ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BERÁ AO NÚCLEO DE TECNOLOGIAS EDUCA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r o processo de implantação e implementação das S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r as atividades desenvolvidas pelos PS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ferecer capacitação continua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er mecanismos de integração entre professor regente e professor da 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-se do grupo que desencadeia articu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4653000"/>
            <a:ext cx="1511280" cy="360360"/>
          </a:xfrm>
          <a:prstGeom prst="leftRightArrow">
            <a:avLst>
              <a:gd name="adj1" fmla="val 50000"/>
              <a:gd name="adj2" fmla="val 834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BERÁ AS SALAS DE TECNOLOGIAS EDUC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recer suporte aos professores regentes na utilização, planejamento e desenvolvimento das atividades realizadas na 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enciar os trabalhos desenvolvidos na STE, encaminhando semestralmente relatórios ao 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r de capacitações e eventos de divulgações oferecidos pelo 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rir carga horária destinada ao planejamento pedagógico e de utilização da S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balhar de acordo com o regimento escolar da esc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cular, planejar e desenvolver projetos de ensino em sua disciplina de forma interdisciplin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plano de ação, anualmente, a fim articular formação continuada junto aos professores reg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BERÁ AOS PROFESSORES RE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r e desenvolver atividades na STE, objetivando a efetividade e eficácia do processo de ensino e aprendizag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er registro das atividades desenvolvidas com as tecnologias educaciona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zar-se pelo desenvolvimento das atividades n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ipar das capacitações e eventos oferecidos pelo NTE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ter-se em processo de formação contínu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7580160" cy="410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155736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D      NTE      STE     Prof.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Prof.    STE    NTE      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17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38036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58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86728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48000" y="1700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detec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unções atribuídas aos professores das STEs pel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gi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à secretaria (mandar e.mail, formatar textos etc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à coordenação pedagógica (digitar e imprimir convites,bilhetes para os pai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r suporte ao professor regente (digitar e imprimir provas, procurar conteúdos da disciplina, preparar a aula, ministrar a au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lta de interesse quanto à formação continuada em Tecnologias Educacionais por parte dos professores rege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7416720" cy="531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26028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a-se oferecer o mundo aos alu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6093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ê a SED? Cadê o NTE? Cadê a S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01:31Z</dcterms:created>
  <dc:creator>Fbaptista</dc:creator>
  <dc:description/>
  <dc:language>en-US</dc:language>
  <cp:lastModifiedBy>NTE LUCIANA</cp:lastModifiedBy>
  <dcterms:modified xsi:type="dcterms:W3CDTF">2008-08-13T11:45:26Z</dcterms:modified>
  <cp:revision>102</cp:revision>
  <dc:subject/>
  <dc:title>Slide 1</dc:title>
</cp:coreProperties>
</file>